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4.wmf" ContentType="image/x-wmf"/>
  <Override PartName="/ppt/media/image5.wmf" ContentType="image/x-wmf"/>
  <Override PartName="/ppt/media/image10.png" ContentType="image/png"/>
  <Override PartName="/ppt/media/image20.wmf" ContentType="image/x-wmf"/>
  <Override PartName="/ppt/media/image19.png" ContentType="image/png"/>
  <Override PartName="/ppt/media/image18.png" ContentType="image/png"/>
  <Override PartName="/ppt/media/image16.wmf" ContentType="image/x-wmf"/>
  <Override PartName="/ppt/media/image14.png" ContentType="image/png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58D-34B8-4543-8626-AC2417D8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C96A-9F77-47EF-8CE3-ECB1C119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AE82-6088-4F3F-936D-F09F29E4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A6D9-E067-44A8-BDE7-BA068582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D734-F8FD-4146-AC04-44A38685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CA9B-6F92-46F5-8856-532C5916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DFF5-529B-475A-A141-F0ECEFE6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567B-40CF-4241-B6EF-B041E1E4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020A-B874-45A0-91C7-76F51B6A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0F63-41C4-4518-B69B-FC6D85CA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08E2-422C-4818-B693-BAC30EFF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FF5F-4067-4DDC-BEBA-ACBEA5E5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89080" y="-3240"/>
            <a:ext cx="862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cc"/>
                </a:solidFill>
                <a:latin typeface="隶书"/>
                <a:ea typeface="隶书"/>
              </a:rPr>
              <a:t>第</a:t>
            </a:r>
            <a:r>
              <a:rPr b="1" lang="zh-CN" sz="2000" spc="-1" strike="noStrike">
                <a:solidFill>
                  <a:srgbClr val="00ffcc"/>
                </a:solidFill>
                <a:latin typeface="隶书"/>
                <a:ea typeface="隶书"/>
              </a:rPr>
              <a:t>7</a:t>
            </a:r>
            <a:r>
              <a:rPr b="1" lang="zh-CN" sz="2000" spc="-1" strike="noStrike">
                <a:solidFill>
                  <a:srgbClr val="00ffcc"/>
                </a:solidFill>
                <a:latin typeface="隶书"/>
                <a:ea typeface="隶书"/>
              </a:rPr>
              <a:t>章  应用设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380880"/>
            <a:ext cx="6782040" cy="0"/>
          </a:xfrm>
          <a:prstGeom prst="line">
            <a:avLst/>
          </a:prstGeom>
          <a:ln cap="rnd" w="38160">
            <a:solidFill>
              <a:srgbClr val="ff00ff"/>
            </a:solidFill>
            <a:custDash>
              <a:ds d="100000" sp="1000"/>
            </a:custDash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8FD4-0DAF-4BC8-B3CE-A8E0797D8E4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32.xml"/><Relationship Id="rId8" Type="http://schemas.openxmlformats.org/officeDocument/2006/relationships/slide" Target="slide32.xml"/><Relationship Id="rId9" Type="http://schemas.openxmlformats.org/officeDocument/2006/relationships/slide" Target="slide32.xml"/><Relationship Id="rId10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5.xml"/><Relationship Id="rId5" Type="http://schemas.openxmlformats.org/officeDocument/2006/relationships/slide" Target="slide35.xml"/><Relationship Id="rId6" Type="http://schemas.openxmlformats.org/officeDocument/2006/relationships/slide" Target="slide35.xml"/><Relationship Id="rId7" Type="http://schemas.openxmlformats.org/officeDocument/2006/relationships/slide" Target="slide36.xml"/><Relationship Id="rId8" Type="http://schemas.openxmlformats.org/officeDocument/2006/relationships/slide" Target="slide36.xml"/><Relationship Id="rId9" Type="http://schemas.openxmlformats.org/officeDocument/2006/relationships/slide" Target="slide36.xml"/><Relationship Id="rId10" Type="http://schemas.openxmlformats.org/officeDocument/2006/relationships/slide" Target="slide38.xml"/><Relationship Id="rId11" Type="http://schemas.openxmlformats.org/officeDocument/2006/relationships/slide" Target="slide38.xml"/><Relationship Id="rId12" Type="http://schemas.openxmlformats.org/officeDocument/2006/relationships/slide" Target="slide38.xml"/><Relationship Id="rId13" Type="http://schemas.openxmlformats.org/officeDocument/2006/relationships/slide" Target="slide38.xml"/><Relationship Id="rId14" Type="http://schemas.openxmlformats.org/officeDocument/2006/relationships/slide" Target="slide38.xml"/><Relationship Id="rId15" Type="http://schemas.openxmlformats.org/officeDocument/2006/relationships/slide" Target="slide40.xml"/><Relationship Id="rId16" Type="http://schemas.openxmlformats.org/officeDocument/2006/relationships/slide" Target="slide40.xml"/><Relationship Id="rId17" Type="http://schemas.openxmlformats.org/officeDocument/2006/relationships/slide" Target="slide40.xml"/><Relationship Id="rId1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20.xml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宋体"/>
              </a:rPr>
              <a:t>第</a:t>
            </a:r>
            <a:r>
              <a:rPr b="1" lang="zh-CN" sz="3600" spc="-1" strike="noStrike">
                <a:solidFill>
                  <a:srgbClr val="ff9933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章</a:t>
            </a:r>
            <a:r>
              <a:rPr b="1" lang="zh-CN" sz="3600" spc="-1" strike="noStrike">
                <a:solidFill>
                  <a:srgbClr val="ff9933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应用设计</a:t>
            </a:r>
            <a:r>
              <a:rPr b="1" lang="zh-CN" sz="3600" spc="-1" strike="noStrike">
                <a:solidFill>
                  <a:srgbClr val="ff9933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76360" y="20574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  <a:hlinkClick r:id="rId1" action="ppaction://hlinksldjump"/>
              </a:rPr>
              <a:t>7.1  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系统设计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  <a:hlinkClick r:id="rId3" action="ppaction://hlinksldjump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  <a:hlinkClick r:id="rId4" action="ppaction://hlinksldjump"/>
              </a:rPr>
              <a:t>7.2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　程序设计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  <a:hlinkClick r:id="rId6" action="ppaction://hlinksldjump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  <a:hlinkClick r:id="rId7" action="ppaction://hlinksldjump"/>
              </a:rPr>
              <a:t>7.3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　设计实例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  <a:hlinkClick r:id="rId9" action="ppaction://hlinksldjump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58672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步和初始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510552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有向线段和转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有向线段和转移及转移条件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.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2146320" cy="3886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794200" y="3276720"/>
            <a:ext cx="546120" cy="24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7.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转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动作说明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个步表示控制过程中的稳定状态，它可以对应一个或多个动作。可以在步右边加一个矩形框，在框中用简明的文字说明该步对应的动作，如下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7.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中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表示一个步对应一个动作；图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和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表示一个步对应多个动作，两种方法任选一种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76520" y="4572000"/>
            <a:ext cx="59436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使用规则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步与步不能直接相连，必须用转移分开；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转移与转移不能直接相连，必须用步分开；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步与转移、转移与步之间的连线采用有向线段，画功能图的顺序一般是从上向下或从左到右，正常顺序时可以省略箭头，否则必须加箭头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一个功能图至少应有一个初始步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结构形式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66880" y="22096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顺序结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分支结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选择性分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并发性分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循环结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复合结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）顺序结构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2920" y="2736000"/>
            <a:ext cx="91188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顺序结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8144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8144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76920" y="2438280"/>
          <a:ext cx="310032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310032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）分支结构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66240" y="624852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选择性分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441972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并发性分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971800" y="2514600"/>
          <a:ext cx="4191120" cy="31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514600"/>
                    <a:ext cx="4191120" cy="31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3805200" y="5943600"/>
            <a:ext cx="32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7.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并发性分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）循环结构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200400" cy="4267440"/>
          </a:xfrm>
          <a:prstGeom prst="rect">
            <a:avLst/>
          </a:prstGeom>
          <a:noFill/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循环结构用于一个顺序过程的多次或往复执行。功能图画法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.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，这种结构可看作是选择性分支结构的一种特殊情况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105520" y="2209680"/>
            <a:ext cx="2274840" cy="3657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927920" y="2454120"/>
            <a:ext cx="54612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7.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并发性分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）复合结构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78440" y="6019920"/>
            <a:ext cx="24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功能流程图举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23040" y="6400800"/>
            <a:ext cx="146376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97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276720" y="1981080"/>
          <a:ext cx="3809880" cy="37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981080"/>
                    <a:ext cx="3809880" cy="37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本章主要内容：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应用设计的基本知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系统设计，包括系统设计的步骤和几种常用的设计方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程序设计，比较详细地介绍在程序设计时功能流程图的使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应用实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本章要求对应用系统设计的方法和步骤掌握会用，重点是掌握程序设计方法中的功能流程图法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18360" y="6400800"/>
            <a:ext cx="192564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7.2.2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　由功能流程图到程序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90920" y="22096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逻辑函数法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功能流程图实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步标志继电器法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逻辑函数法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通用辅助继电器的逻辑函数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执行元件的逻辑函数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由逻辑函数式画梯形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通用辅助继电器的逻辑函数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函数规则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除第一步外，每一步用一个通用辅助继电器（以下简称继电器）表示本步是否被执行，即步状态。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.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2279880" cy="2819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486400" y="5791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7.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步与继电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执行元件的逻辑函数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7.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中的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Arial"/>
              </a:rPr>
              <a:t>j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Arial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分别表示这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步所对应的动作或输出，可以是执行元件或其他继电器，也可以是指令盒。一般情况下，一个步对应一个动作，当功能流程图中有多个步对应同一个动作时，其输出可用这几个步对应的继电器“或”来表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由逻辑函数式画梯形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可由每个逻辑函数式中的与或逻辑关系，用串联或并联触点对应线圈的形式画出所有梯级的梯形图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写通用辅助继电器的逻辑函数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写执行元件的逻辑函数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由逻辑函数式画梯形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功能流程图实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1905120"/>
            <a:ext cx="47242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用起动优先规则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）写通用辅助继电器的逻辑函数式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819520" y="2590920"/>
          <a:ext cx="5200560" cy="37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590920"/>
                    <a:ext cx="520056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）写执行元件的逻辑函数式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7.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中除步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M00.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步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M00.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应同一个执行元件输出触点外，其他每一步对应一个不同的执行元件输出触点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多步对应一动作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f (Q0.2)=M00.2+M00.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步对应一动作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f (Q0.0)=M00.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f (Q0.3)=M00.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f (Q0.5)=M00.7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f (Q1.0)=M01.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其他输入点的逻辑函数式写法也都用相同方式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）由逻辑函数式画梯形图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66880"/>
            <a:ext cx="7162560" cy="947160"/>
          </a:xfrm>
          <a:prstGeom prst="rect">
            <a:avLst/>
          </a:prstGeom>
          <a:noFill/>
          <a:ln cap="rnd" w="1908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根据上述逻辑函数式可画出对应的梯形图，如右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.1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为节省篇幅，本程序中的所有标题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都省略，且只列出了部分输出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44808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460680" cy="46483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61944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952880" y="762120"/>
            <a:ext cx="2908440" cy="5715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11840" y="601992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7.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转化为梯形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60504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666880" y="762120"/>
            <a:ext cx="3478320" cy="51051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899080" y="609588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7.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转化为梯形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宋体"/>
              </a:rPr>
              <a:t>7.1  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系统设计</a:t>
            </a:r>
            <a:r>
              <a:rPr b="1" lang="zh-CN" sz="3600" spc="-1" strike="noStrike">
                <a:solidFill>
                  <a:srgbClr val="ff9933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14600" y="2057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Arial"/>
                <a:hlinkClick r:id="rId1" action="ppaction://hlinksldjump"/>
              </a:rPr>
              <a:t>7.1.1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系统设计的原则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Arial"/>
                <a:hlinkClick r:id="rId4" action="ppaction://hlinksldjump"/>
              </a:rPr>
              <a:t>7.1.2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　系统设计的步骤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6400800"/>
            <a:ext cx="173520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步标志继电器法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362320" y="2057400"/>
          <a:ext cx="404172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057400"/>
                    <a:ext cx="40417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6936840" y="1854360"/>
            <a:ext cx="911880" cy="50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7.1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顺序继电器指令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4400" y="1419480"/>
            <a:ext cx="546120" cy="50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7.1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顺序继电器指令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29680" y="6400800"/>
            <a:ext cx="72936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28920" y="109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587600" y="914400"/>
          <a:ext cx="29574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0" y="914400"/>
                    <a:ext cx="29574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355284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254480" y="914400"/>
          <a:ext cx="2679840" cy="556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54480" y="914400"/>
                    <a:ext cx="267984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7.3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　设计实例 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66520" y="20574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00"/>
                </a:solidFill>
                <a:uFillTx/>
                <a:latin typeface="Arial"/>
                <a:hlinkClick r:id="rId1" action="ppaction://hlinksldjump"/>
              </a:rPr>
              <a:t>1. 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系统描述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00"/>
                </a:solidFill>
                <a:uFillTx/>
                <a:latin typeface="Arial"/>
                <a:hlinkClick r:id="rId4" action="ppaction://hlinksldjump"/>
              </a:rPr>
              <a:t>2. 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制定控制方案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00"/>
                </a:solidFill>
                <a:uFillTx/>
                <a:latin typeface="Arial"/>
                <a:hlinkClick r:id="rId7" action="ppaction://hlinksldjump"/>
              </a:rPr>
              <a:t>3. 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系统配置及输入输出对照表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00"/>
                </a:solidFill>
                <a:uFillTx/>
                <a:latin typeface="Arial"/>
                <a:hlinkClick r:id="rId10" action="ppaction://hlinksldjump"/>
              </a:rPr>
              <a:t>4. 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设计主电路及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PLC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外部接线图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00"/>
                </a:solidFill>
                <a:uFillTx/>
                <a:latin typeface="Arial"/>
                <a:hlinkClick r:id="rId15" action="ppaction://hlinksldjump"/>
              </a:rPr>
              <a:t>5. 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设计功能流程图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建立步与继电器对照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写逻辑函数式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画梯形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22920" y="6400800"/>
            <a:ext cx="100368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系统描述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系统描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设计一个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工位旋转工作台，其工作示意如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7.1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所示。三个工位分别完成上料、钻孔和卸件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动作特性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工位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：上料器推进，料到位后退回等待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工位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：将料夹紧后，钻头向下进给钻孔，下钻到位后退回，退回到位后，工件松开，放松完成后等待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工位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：卸料器向前将加工完成的工件推出，推出到位后退回，退回到位后等待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控制要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通过选择开关可实现自动运行、半自动运行和手动操作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15800" y="5943600"/>
            <a:ext cx="24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工作台示意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29680" y="6400800"/>
            <a:ext cx="72936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47242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制定控制方案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用选择开关来决定控制系统的全自动、半自动运行和手动调整方式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手动调整采用按钮点动的控制方式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系统处于半自动工作方式时，每执行完成一个工作循环，用一个起动按钮来控制进入下一次循环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系统处于全自动运行方式时，可实现自动往复地循环执行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系统运动不很复杂，采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台电机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对于部分与顺序控制和工作循环过程无关的主令部件和控制部件，采用不进入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的方法以节省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I/O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点数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由于点数不多，所以用中小型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可以实现。可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CPU 224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与扩展模块，或用一台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CPU 226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29680" y="6400800"/>
            <a:ext cx="72936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系统配置及输入输出对照表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7.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　输入信号对照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5695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.2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输出信号对照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371600" y="3276720"/>
            <a:ext cx="6934320" cy="2363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429680" y="6400800"/>
            <a:ext cx="72936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设计主电路及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PLC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外部接线图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70720" y="2289960"/>
            <a:ext cx="546120" cy="43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L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外部接线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23960" y="11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590920" y="1905120"/>
          <a:ext cx="409572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05120"/>
                    <a:ext cx="409572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7.1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外部接线的示意图，实际接线时，还应考虑到以下几个方面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应有电源输入线，通常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20V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0Hz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交流电源，允许电源电压有一定的浮动范围。并且必须有保护装置，如熔断器等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输入和输出端子每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为一组共用一个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端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输出端的线圈和电磁阀必须加保护电路，如并接阻容吸收回路或续流二极管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29680" y="6400800"/>
            <a:ext cx="72936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7.1.1 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系统设计的原则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可编程序控制器控制系统的设计中，应该最大限度地满足生产机械或生产流程对电气控制的要求，在满足控制要求的前提下，力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控制系统简单、经济、安全、可靠、操作和维修方便，而且应使系统能尽量降低使用者长期运行的成本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设计一个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控制系统有多种途径：可以在原有的继电接触控制系统基础上加以改造，形成可编程序控制器的控制系统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19800" y="6400800"/>
            <a:ext cx="139068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851600" y="2222280"/>
            <a:ext cx="54612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7.1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功能流程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04840" y="31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828800" y="533520"/>
          <a:ext cx="5715000" cy="62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33520"/>
                    <a:ext cx="5715000" cy="62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60800" y="1617480"/>
            <a:ext cx="667800" cy="44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设计功能流程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41840" y="594360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7.1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手动部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29680" y="6400800"/>
            <a:ext cx="72936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9072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52280" y="912960"/>
          <a:ext cx="8839440" cy="47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2960"/>
                    <a:ext cx="8839440" cy="47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6.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建立步与继电器对照表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828800" y="2438280"/>
          <a:ext cx="6400800" cy="38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438280"/>
                    <a:ext cx="640080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3506040" y="20304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表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7.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　通用继电器对照表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29680" y="6400800"/>
            <a:ext cx="72936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7.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写逻辑函数式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由本功能流程图写逻辑函数式时，采用关断优先规则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继电器函数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初始步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手动调整步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手动操作步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动和半自动调整步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工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工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工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执行元件函数式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29680" y="6400800"/>
            <a:ext cx="72936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8.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画梯形图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将所有函数式写出后，很容易就可以用编程软件做出梯形图。梯形图完成后便可以将可编程序控制器与计算机连接，把程序及组态数据下装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进行调试，程序无误后即可结合施工设计将系统用于实际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429680" y="6400800"/>
            <a:ext cx="72936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ANK YOU VERY MUCH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本章到此结束，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谢谢您的光临！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22920" y="6400800"/>
            <a:ext cx="100368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endshow"/>
          </p:cNvPr>
          <p:cNvSpPr/>
          <p:nvPr/>
        </p:nvSpPr>
        <p:spPr>
          <a:xfrm>
            <a:off x="6073920" y="6400800"/>
            <a:ext cx="72936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结束放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7.1.2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　系统设计的步骤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90560" y="21337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熟悉被控对象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制定控制方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详细描述控制对象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详细描述操作员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配置可编程序控制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程序设计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19800" y="6400800"/>
            <a:ext cx="139068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7.2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　程序设计 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9320" y="22096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  <a:hlinkClick r:id="rId1" action="ppaction://hlinksldjump"/>
              </a:rPr>
              <a:t>7.2.1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　功能流程图概述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  <a:hlinkClick r:id="rId4" action="ppaction://hlinksldjump"/>
              </a:rPr>
              <a:t>7.2.2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　由功能流程图到程序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22920" y="6400800"/>
            <a:ext cx="1003680" cy="3682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程序设计的内容包括：编写程序、编译程序、模拟运行及调试程序等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程序设计的方法是指用什么方法和编程语言来编写用户程序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程序设计有多种方法：如果控制系统是改造原有成熟的继电接触控制系统，则可由电气控制电路图很容易地转化为梯形图，生成控制程序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本节主要介绍功能流程图法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7.2.1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　功能流程图概述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功能流程图，简称功能图，又叫状态流程图或状态转移图。它是专用于工业顺序控制程序设计的一种功能说明性语言，能完整地描述控制系统的工作过程、功能和特性，是分析、设计电气控制系统控制程序的重要工具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组成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步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步是控制系统中的一个相对不变的性质，它对应于一个稳定的状态。在功能流程图中步通常表示某个执行元件的状态变化。步用矩形框表示，框中的数字是该步的编号，编号可以是该步对应的工步序号，也可以是与该步相对应的编程元件（如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内部的通用辅助继电器、步标志继电器等）。步的图形符号如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7.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所示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初始步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初始步对应于控制系统的初始状态，是系统运行的起点。一个控制系统至少有一个初始步，初始步用双线框表示，如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7.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所示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5T07:49:27Z</dcterms:created>
  <dc:creator>新人电脑</dc:creator>
  <dc:description/>
  <dc:language>en-US</dc:language>
  <cp:lastModifiedBy>li</cp:lastModifiedBy>
  <dcterms:modified xsi:type="dcterms:W3CDTF">2002-02-01T03:35:35Z</dcterms:modified>
  <cp:revision>32</cp:revision>
  <dc:subject/>
  <dc:title>第7章  应用设计 </dc:title>
</cp:coreProperties>
</file>